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jep3.wav" ContentType="audio/x-wav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6BB-53DA-438B-B991-C621781D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25C-C1CD-4B24-9E08-5864ABF5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05C-7016-4DAE-A94D-B9AFA654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0AF-988C-48E6-BD64-8B7FA7EC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E43-66D9-4D6D-84C9-52949514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9A9-2D8A-41DD-B813-AF73418B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1D8-C7B9-4F59-8823-3A2D656F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3DF-521D-4610-A98C-D9DE0950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CB9-15A6-4DB7-935B-F2A37211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05D-1472-40E6-A116-DFDD8F9E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8DA-8871-4636-B8ED-460028DE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FA9-DD0E-49C8-A15D-EB8E1220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34A7-7451-48EF-AE2E-CA4CD2BD6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30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slide" Target="slide23.xml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33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slide" Target="slide8.xml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13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slide" Target="slide19.xml"/><Relationship Id="rId78" Type="http://schemas.openxmlformats.org/officeDocument/2006/relationships/image" Target="../media/image2.png"/><Relationship Id="rId79" Type="http://schemas.openxmlformats.org/officeDocument/2006/relationships/image" Target="../media/image1.png"/><Relationship Id="rId80" Type="http://schemas.openxmlformats.org/officeDocument/2006/relationships/slide" Target="slide24.xml"/><Relationship Id="rId81" Type="http://schemas.openxmlformats.org/officeDocument/2006/relationships/image" Target="../media/image2.png"/><Relationship Id="rId82" Type="http://schemas.openxmlformats.org/officeDocument/2006/relationships/image" Target="../media/image1.png"/><Relationship Id="rId83" Type="http://schemas.openxmlformats.org/officeDocument/2006/relationships/slide" Target="slide29.xml"/><Relationship Id="rId84" Type="http://schemas.openxmlformats.org/officeDocument/2006/relationships/image" Target="../media/image2.png"/><Relationship Id="rId85" Type="http://schemas.openxmlformats.org/officeDocument/2006/relationships/image" Target="../media/image1.png"/><Relationship Id="rId86" Type="http://schemas.openxmlformats.org/officeDocument/2006/relationships/slide" Target="slide34.xml"/><Relationship Id="rId87" Type="http://schemas.openxmlformats.org/officeDocument/2006/relationships/image" Target="../media/image2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3.jpeg"/><Relationship Id="rId95" Type="http://schemas.openxmlformats.org/officeDocument/2006/relationships/image" Target="../media/image4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5.png"/><Relationship Id="rId98" Type="http://schemas.openxmlformats.org/officeDocument/2006/relationships/image" Target="../media/image6.png"/><Relationship Id="rId99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004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ich species appears to have been most successful in surviving changes over tim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10000" t="22227" r="25004" b="37505"/>
          <a:stretch/>
        </p:blipFill>
        <p:spPr>
          <a:xfrm>
            <a:off x="914400" y="0"/>
            <a:ext cx="7315200" cy="32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733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explains what happened to species A. </a:t>
            </a:r>
            <a:r>
              <a:rPr b="0" lang="en-US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11002" t="29170" r="29000" b="30555"/>
          <a:stretch/>
        </p:blipFill>
        <p:spPr>
          <a:xfrm>
            <a:off x="0" y="0"/>
            <a:ext cx="9144000" cy="35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181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concept illustrated he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rcRect l="44003" t="26007" r="11999" b="18060"/>
          <a:stretch/>
        </p:blipFill>
        <p:spPr>
          <a:xfrm>
            <a:off x="1066680" y="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31240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arwin used this sequence of 5 to account for varying Finch species on the Galapag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228600" y="4191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etter Z represents these structur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20001" t="22227" r="42000" b="25003"/>
          <a:stretch/>
        </p:blipFill>
        <p:spPr>
          <a:xfrm>
            <a:off x="2057400" y="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990720"/>
            <a:ext cx="6477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chromosome pair shows chromosomes from the 2 most closely related individu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rcRect l="14002" t="11110" r="75006" b="19445"/>
          <a:stretch/>
        </p:blipFill>
        <p:spPr>
          <a:xfrm>
            <a:off x="0" y="0"/>
            <a:ext cx="150804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601640" y="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20720" y="205740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0720" y="396252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1640" y="59436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581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se 2 species are the most closely relat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56002" t="22227" r="14002" b="38890"/>
          <a:stretch/>
        </p:blipFill>
        <p:spPr>
          <a:xfrm>
            <a:off x="6400800" y="10666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17001" t="43057" r="53002" b="41666"/>
          <a:stretch/>
        </p:blipFill>
        <p:spPr>
          <a:xfrm>
            <a:off x="3352680" y="2209680"/>
            <a:ext cx="2286000" cy="838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rcRect l="17001" t="22227" r="53002" b="48615"/>
          <a:stretch/>
        </p:blipFill>
        <p:spPr>
          <a:xfrm>
            <a:off x="3352680" y="10666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rcRect l="56002" t="22227" r="14002" b="40281"/>
          <a:stretch/>
        </p:blipFill>
        <p:spPr>
          <a:xfrm>
            <a:off x="304920" y="106668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rcRect l="17001" t="20836" r="53002" b="69451"/>
          <a:stretch/>
        </p:blipFill>
        <p:spPr>
          <a:xfrm>
            <a:off x="304920" y="2209680"/>
            <a:ext cx="2286000" cy="533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ecies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ecies 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ecies 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512136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the complimentary sequence of D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14214" t="8334" r="38216" b="18060"/>
          <a:stretch/>
        </p:blipFill>
        <p:spPr>
          <a:xfrm>
            <a:off x="1371600" y="0"/>
            <a:ext cx="6553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512136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ich amino acids will bond to CUU &amp; CAC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1001" t="8334" r="14002" b="23612"/>
          <a:stretch/>
        </p:blipFill>
        <p:spPr>
          <a:xfrm>
            <a:off x="0" y="0"/>
            <a:ext cx="914400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47003" t="29170" r="17998" b="18060"/>
          <a:stretch/>
        </p:blipFill>
        <p:spPr>
          <a:xfrm>
            <a:off x="2403360" y="0"/>
            <a:ext cx="4422960" cy="4800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457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identity of the cell shown he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657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process that caused this change is referred to as th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8999" t="29170" r="55000" b="18060"/>
          <a:stretch/>
        </p:blipFill>
        <p:spPr>
          <a:xfrm>
            <a:off x="5181480" y="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rcRect l="47003" t="29170" r="18999" b="18060"/>
          <a:stretch/>
        </p:blipFill>
        <p:spPr>
          <a:xfrm>
            <a:off x="1066680" y="0"/>
            <a:ext cx="2590920" cy="2895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278000" y="2895480"/>
            <a:ext cx="20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50000" y="297180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f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0"/>
          <a:ext cx="9144000" cy="5791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6002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why starch must be digested into glucose by the bod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direction of movemen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f the following substances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, glucose, starch &amp; iodi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dialysis_tubing_MC" descr=""/>
          <p:cNvPicPr/>
          <p:nvPr/>
        </p:nvPicPr>
        <p:blipFill>
          <a:blip r:embed="rId1"/>
          <a:stretch/>
        </p:blipFill>
        <p:spPr>
          <a:xfrm>
            <a:off x="990720" y="0"/>
            <a:ext cx="6933960" cy="3505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42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ich chromosome shows a deletio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1998" t="26388" r="5999" b="26388"/>
          <a:stretch/>
        </p:blipFill>
        <p:spPr>
          <a:xfrm>
            <a:off x="0" y="0"/>
            <a:ext cx="914400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1240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process occurs during meios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7001" t="29170" r="27002" b="41672"/>
          <a:stretch/>
        </p:blipFill>
        <p:spPr>
          <a:xfrm>
            <a:off x="0" y="0"/>
            <a:ext cx="914400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2991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why mosquito populations increase with pesticide us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10000" t="18060" r="25004" b="25003"/>
          <a:stretch/>
        </p:blipFill>
        <p:spPr>
          <a:xfrm>
            <a:off x="0" y="0"/>
            <a:ext cx="9144000" cy="44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rcRect l="1001" t="31946" r="13000" b="31946"/>
          <a:stretch/>
        </p:blipFill>
        <p:spPr>
          <a:xfrm>
            <a:off x="0" y="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-47520" y="4419720"/>
            <a:ext cx="91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or each chemical used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better adapted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speci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2004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name of this technique &amp; how it’s used toda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14002" t="41672" r="13000" b="38063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creenj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lue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3" name="screenj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lue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6" name="screenj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lue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screenj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ue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screenj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ue" descr="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screenj" descr=""/>
          <p:cNvPicPr/>
          <p:nvPr/>
        </p:nvPicPr>
        <p:blipFill>
          <a:blip r:embed="rId15"/>
          <a:stretch/>
        </p:blipFill>
        <p:spPr>
          <a:xfrm>
            <a:off x="7819920" y="1981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lue" descr="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screenj" descr="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ue" descr="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screenj" descr="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lue" descr="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screenj" descr="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lue" descr="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screenj" descr="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lue" descr="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screenj" descr="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lue" descr="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screenj" descr="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lue" descr="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screenj" descr="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lue" descr="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9" name="screenj" descr="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lue" descr="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2" name="screenj" descr="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lue" descr="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screenj" descr="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ue" descr="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screenj" descr="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lue" descr="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screenj" descr="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lue" descr="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screenj" descr="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lue" descr="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screenj" descr="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lue" descr="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0" name="screenj" descr="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lue" descr=""/>
          <p:cNvPicPr/>
          <p:nvPr/>
        </p:nvPicPr>
        <p:blipFill>
          <a:blip r:embed="rId61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screenj" descr=""/>
          <p:cNvPicPr/>
          <p:nvPr/>
        </p:nvPicPr>
        <p:blipFill>
          <a:blip r:embed="rId62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lue" descr=""/>
          <p:cNvPicPr/>
          <p:nvPr/>
        </p:nvPicPr>
        <p:blipFill>
          <a:blip r:embed="rId64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screenj" descr=""/>
          <p:cNvPicPr/>
          <p:nvPr/>
        </p:nvPicPr>
        <p:blipFill>
          <a:blip r:embed="rId6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lue" descr=""/>
          <p:cNvPicPr/>
          <p:nvPr/>
        </p:nvPicPr>
        <p:blipFill>
          <a:blip r:embed="rId66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screenj" descr=""/>
          <p:cNvPicPr/>
          <p:nvPr/>
        </p:nvPicPr>
        <p:blipFill>
          <a:blip r:embed="rId6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lue" descr=""/>
          <p:cNvPicPr/>
          <p:nvPr/>
        </p:nvPicPr>
        <p:blipFill>
          <a:blip r:embed="rId6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screenj" descr=""/>
          <p:cNvPicPr/>
          <p:nvPr/>
        </p:nvPicPr>
        <p:blipFill>
          <a:blip r:embed="rId7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lue" descr=""/>
          <p:cNvPicPr/>
          <p:nvPr/>
        </p:nvPicPr>
        <p:blipFill>
          <a:blip r:embed="rId7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screenj" descr=""/>
          <p:cNvPicPr/>
          <p:nvPr/>
        </p:nvPicPr>
        <p:blipFill>
          <a:blip r:embed="rId7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lue" descr=""/>
          <p:cNvPicPr/>
          <p:nvPr/>
        </p:nvPicPr>
        <p:blipFill>
          <a:blip r:embed="rId7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screenj" descr=""/>
          <p:cNvPicPr/>
          <p:nvPr/>
        </p:nvPicPr>
        <p:blipFill>
          <a:blip r:embed="rId7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blue" descr=""/>
          <p:cNvPicPr/>
          <p:nvPr/>
        </p:nvPicPr>
        <p:blipFill>
          <a:blip r:embed="rId78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screenj" descr=""/>
          <p:cNvPicPr/>
          <p:nvPr/>
        </p:nvPicPr>
        <p:blipFill>
          <a:blip r:embed="rId79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lue" descr=""/>
          <p:cNvPicPr/>
          <p:nvPr/>
        </p:nvPicPr>
        <p:blipFill>
          <a:blip r:embed="rId81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screenj" descr=""/>
          <p:cNvPicPr/>
          <p:nvPr/>
        </p:nvPicPr>
        <p:blipFill>
          <a:blip r:embed="rId82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blue" descr=""/>
          <p:cNvPicPr/>
          <p:nvPr/>
        </p:nvPicPr>
        <p:blipFill>
          <a:blip r:embed="rId84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screenj" descr=""/>
          <p:cNvPicPr/>
          <p:nvPr/>
        </p:nvPicPr>
        <p:blipFill>
          <a:blip r:embed="rId85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lue" descr=""/>
          <p:cNvPicPr/>
          <p:nvPr/>
        </p:nvPicPr>
        <p:blipFill>
          <a:blip r:embed="rId87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screenj" descr=""/>
          <p:cNvPicPr/>
          <p:nvPr/>
        </p:nvPicPr>
        <p:blipFill>
          <a:blip r:embed="rId88"/>
          <a:stretch/>
        </p:blipFill>
        <p:spPr>
          <a:xfrm>
            <a:off x="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screenj" descr=""/>
          <p:cNvPicPr/>
          <p:nvPr/>
        </p:nvPicPr>
        <p:blipFill>
          <a:blip r:embed="rId89"/>
          <a:stretch/>
        </p:blipFill>
        <p:spPr>
          <a:xfrm>
            <a:off x="16002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screenj" descr=""/>
          <p:cNvPicPr/>
          <p:nvPr/>
        </p:nvPicPr>
        <p:blipFill>
          <a:blip r:embed="rId90"/>
          <a:stretch/>
        </p:blipFill>
        <p:spPr>
          <a:xfrm>
            <a:off x="32004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screenj" descr=""/>
          <p:cNvPicPr/>
          <p:nvPr/>
        </p:nvPicPr>
        <p:blipFill>
          <a:blip r:embed="rId91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screenj" descr=""/>
          <p:cNvPicPr/>
          <p:nvPr/>
        </p:nvPicPr>
        <p:blipFill>
          <a:blip r:embed="rId92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screenj" descr=""/>
          <p:cNvPicPr/>
          <p:nvPr/>
        </p:nvPicPr>
        <p:blipFill>
          <a:blip r:embed="rId93"/>
          <a:stretch/>
        </p:blipFill>
        <p:spPr>
          <a:xfrm>
            <a:off x="7819920" y="685800"/>
            <a:ext cx="1324080" cy="1371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3048120" y="99072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of Biod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990720"/>
            <a:ext cx="15238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Black"/>
              </a:rPr>
              <a:t>Through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Black"/>
              </a:rPr>
              <a:t>the membra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1430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akin’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99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114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icture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jeplogo2" descr=""/>
          <p:cNvPicPr/>
          <p:nvPr/>
        </p:nvPicPr>
        <p:blipFill>
          <a:blip r:embed="rId94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finaljep" descr=""/>
          <p:cNvPicPr/>
          <p:nvPr/>
        </p:nvPicPr>
        <p:blipFill>
          <a:blip r:embed="rId95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53" name="applause" descr="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76520" y="11430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em Beaks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8"/>
          <a:stretch/>
        </p:blipFill>
        <p:spPr>
          <a:xfrm>
            <a:off x="12952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1814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y word! Which diagram shows meiosi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39000" t="26388" r="11999" b="16669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2991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structure produces the gametes as well as a reproductive hormo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21999" t="27779" r="46001" b="13886"/>
          <a:stretch/>
        </p:blipFill>
        <p:spPr>
          <a:xfrm>
            <a:off x="1981080" y="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876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identity of the gases shown he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0002" t="30555" r="13000" b="19445"/>
          <a:stretch/>
        </p:blipFill>
        <p:spPr>
          <a:xfrm>
            <a:off x="0" y="0"/>
            <a:ext cx="9144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191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possible identity of A,B,C,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rcRect l="21002" t="30555" r="43002" b="26388"/>
          <a:stretch/>
        </p:blipFill>
        <p:spPr>
          <a:xfrm>
            <a:off x="1676520" y="0"/>
            <a:ext cx="6095880" cy="40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105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dentify the 6 labeled parts of the reflex ar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rcRect l="13000" t="29170" r="17998" b="15278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981080"/>
            <a:ext cx="716292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dern Genetic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299120"/>
            <a:ext cx="807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correct sequence of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mRNA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&amp;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amino acid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who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most closely relate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rcRect l="18999" t="26388" r="7001" b="25003"/>
          <a:stretch/>
        </p:blipFill>
        <p:spPr>
          <a:xfrm>
            <a:off x="0" y="0"/>
            <a:ext cx="914400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rcRect l="18999" t="26388" r="7001" b="25003"/>
          <a:stretch/>
        </p:blipFill>
        <p:spPr>
          <a:xfrm>
            <a:off x="68580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172200" y="3048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41760" y="304812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172000" y="304812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79280" y="586728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3320" y="58672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90440" y="586728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19520" y="2590920"/>
            <a:ext cx="1218960" cy="6094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4800600"/>
            <a:ext cx="1218960" cy="6094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2720" y="6400800"/>
            <a:ext cx="75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 created by Saccon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ncrease in pulse rat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371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n the up and up, this is the effect of exercise on pulse rat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895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actic Aci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2209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naerobic respiration (fermentation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676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volution or natural sele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809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pecies 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rcRect l="10000" t="22227" r="25004" b="37505"/>
          <a:stretch/>
        </p:blipFill>
        <p:spPr>
          <a:xfrm>
            <a:off x="914400" y="0"/>
            <a:ext cx="7315200" cy="32623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5257800" y="2514600"/>
            <a:ext cx="6858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43600" y="1676520"/>
            <a:ext cx="68580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990720"/>
            <a:ext cx="68580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0"/>
            <a:ext cx="6858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457200"/>
            <a:ext cx="91440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s muscles become fatigued, blood flow increas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s muscles become tired, blood flow increas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pecies A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went extinct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pecies A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died out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pecies A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could not adapt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rcRect l="11002" t="29170" r="29000" b="30555"/>
          <a:stretch/>
        </p:blipFill>
        <p:spPr>
          <a:xfrm>
            <a:off x="1752480" y="0"/>
            <a:ext cx="58676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85800"/>
            <a:ext cx="9144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urvival of the fitte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3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verp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77520" y="1143000"/>
            <a:ext cx="429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2. Compet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98108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3.Survival of the fittes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(natural selection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43434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4. Reproduction (variation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541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5. speci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4800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Z = Chromosom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rcRect l="20001" t="22227" r="42000" b="25003"/>
          <a:stretch/>
        </p:blipFill>
        <p:spPr>
          <a:xfrm>
            <a:off x="2057400" y="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old your breath! As a student squeezes a clothespin she feels a “burning” sensation in her muscl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“burning” is due to the lack of this chemica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rcRect l="14002" t="11110" r="75006" b="19445"/>
          <a:stretch/>
        </p:blipFill>
        <p:spPr>
          <a:xfrm>
            <a:off x="0" y="0"/>
            <a:ext cx="150804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600200" y="32767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 shows chromosom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rom the 2 most close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elated individu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5410080"/>
            <a:ext cx="1600200" cy="1447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56002" t="22227" r="14002" b="40281"/>
          <a:stretch/>
        </p:blipFill>
        <p:spPr>
          <a:xfrm>
            <a:off x="304920" y="106668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rcRect l="56002" t="22227" r="14002" b="38890"/>
          <a:stretch/>
        </p:blipFill>
        <p:spPr>
          <a:xfrm>
            <a:off x="6400800" y="10666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rcRect l="17001" t="20836" r="53002" b="69451"/>
          <a:stretch/>
        </p:blipFill>
        <p:spPr>
          <a:xfrm>
            <a:off x="304920" y="2209680"/>
            <a:ext cx="2286000" cy="533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6400440" y="304920"/>
            <a:ext cx="246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ecies 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228600"/>
            <a:ext cx="250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ecies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12408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2 species  most closely related are X &amp; Z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(4 base pairs in common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990720"/>
            <a:ext cx="320040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43600" y="990720"/>
            <a:ext cx="320040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371600"/>
            <a:ext cx="32004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447920"/>
            <a:ext cx="320040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752480"/>
            <a:ext cx="32004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3600" y="1828800"/>
            <a:ext cx="32004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2666880"/>
            <a:ext cx="32004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2666880"/>
            <a:ext cx="32004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59436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G,T,C,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rcRect l="14214" t="8334" r="38216" b="18060"/>
          <a:stretch/>
        </p:blipFill>
        <p:spPr>
          <a:xfrm>
            <a:off x="1295280" y="0"/>
            <a:ext cx="6553440" cy="54864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724280" y="533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8320" y="1676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48320" y="2971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724280" y="43434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rcRect l="1001" t="8334" r="14002" b="23612"/>
          <a:stretch/>
        </p:blipFill>
        <p:spPr>
          <a:xfrm>
            <a:off x="0" y="0"/>
            <a:ext cx="9144000" cy="52722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0" y="5156280"/>
            <a:ext cx="91440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UU = Leuc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C = histid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351960" y="2971800"/>
            <a:ext cx="304920" cy="12193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818800" y="3886200"/>
            <a:ext cx="2819160" cy="6858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541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nion cell or plant ce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rcRect l="47003" t="29170" r="17998" b="18060"/>
          <a:stretch/>
        </p:blipFill>
        <p:spPr>
          <a:xfrm>
            <a:off x="2403360" y="0"/>
            <a:ext cx="4422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5121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lasmolysis, osmosis, passive transport, or dehydr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rcRect l="47003" t="29170" r="18999" b="18060"/>
          <a:stretch/>
        </p:blipFill>
        <p:spPr>
          <a:xfrm>
            <a:off x="1066680" y="0"/>
            <a:ext cx="2590920" cy="28954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rcRect l="8999" t="29170" r="55000" b="18060"/>
          <a:stretch/>
        </p:blipFill>
        <p:spPr>
          <a:xfrm>
            <a:off x="5181480" y="0"/>
            <a:ext cx="2743200" cy="28954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373040" y="2590920"/>
            <a:ext cx="20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40480" y="274320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f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Elodea%20Salt%20and%20Fresh" descr=""/>
          <p:cNvPicPr/>
          <p:nvPr/>
        </p:nvPicPr>
        <p:blipFill>
          <a:blip r:embed="rId4"/>
          <a:srcRect l="9378" t="27780" r="11457" b="25000"/>
          <a:stretch/>
        </p:blipFill>
        <p:spPr>
          <a:xfrm>
            <a:off x="2590920" y="3505320"/>
            <a:ext cx="4038480" cy="18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0" y="0"/>
          <a:ext cx="9144000" cy="43052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5" name="Postive%20Glucose%20Benedicts" descr=""/>
          <p:cNvPicPr/>
          <p:nvPr/>
        </p:nvPicPr>
        <p:blipFill>
          <a:blip r:embed="rId4"/>
          <a:srcRect l="29164" t="37784" r="35012" b="14443"/>
          <a:stretch/>
        </p:blipFill>
        <p:spPr>
          <a:xfrm>
            <a:off x="990720" y="403848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2286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Starch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too large to pass through the cell membrane,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glucose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small enough to f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Copy%20of%20dehydra%20synth" descr=""/>
          <p:cNvPicPr/>
          <p:nvPr/>
        </p:nvPicPr>
        <p:blipFill>
          <a:blip r:embed="rId2"/>
          <a:srcRect l="25002" t="34853" r="25833" b="38484"/>
          <a:stretch/>
        </p:blipFill>
        <p:spPr>
          <a:xfrm>
            <a:off x="228600" y="0"/>
            <a:ext cx="4495680" cy="2438280"/>
          </a:xfrm>
          <a:prstGeom prst="rect">
            <a:avLst/>
          </a:prstGeom>
          <a:ln w="0">
            <a:noFill/>
          </a:ln>
        </p:spPr>
      </p:pic>
      <p:pic>
        <p:nvPicPr>
          <p:cNvPr id="410" name="Copy%20of%20dehydra%20synth" descr=""/>
          <p:cNvPicPr/>
          <p:nvPr/>
        </p:nvPicPr>
        <p:blipFill>
          <a:blip r:embed="rId3"/>
          <a:srcRect l="21214" t="10607" r="53031" b="65156"/>
          <a:stretch/>
        </p:blipFill>
        <p:spPr>
          <a:xfrm>
            <a:off x="457200" y="484992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dialysis_tubing_MC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0" y="2243160"/>
            <a:ext cx="9144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 = 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glucose = o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tarch = no move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odine = 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39625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hromosome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rcRect l="1998" t="26388" r="5999" b="26388"/>
          <a:stretch/>
        </p:blipFill>
        <p:spPr>
          <a:xfrm>
            <a:off x="0" y="0"/>
            <a:ext cx="9144000" cy="30132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8229600" y="0"/>
            <a:ext cx="914400" cy="30481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2193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uscles “burn” and start to cramp as a result  of this chemica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36576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rossing Ov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rcRect l="7001" t="29170" r="27002" b="41672"/>
          <a:stretch/>
        </p:blipFill>
        <p:spPr>
          <a:xfrm>
            <a:off x="0" y="0"/>
            <a:ext cx="914400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43434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osquito populations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become resistant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better adapted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mosquitoes surviv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rcRect l="10000" t="18060" r="25004" b="25003"/>
          <a:stretch/>
        </p:blipFill>
        <p:spPr>
          <a:xfrm>
            <a:off x="0" y="0"/>
            <a:ext cx="9144000" cy="44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rcRect l="1001" t="31946" r="13000" b="31946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-228600" y="358128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ieldrin = Anopheles c.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alathion = Anopheles c.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1219320"/>
            <a:ext cx="2440080" cy="8366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075520" y="1447920"/>
            <a:ext cx="1068480" cy="4554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075520" y="1905120"/>
            <a:ext cx="1068480" cy="4554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971800"/>
            <a:ext cx="91440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Gene splicing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&amp; insulin production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Genetic engineering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&amp; production of hormo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rcRect l="14002" t="41672" r="13000" b="38063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rcRect l="39000" t="26388" r="11999" b="16669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0" y="51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4 = meio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05520" y="2362320"/>
            <a:ext cx="4038480" cy="259056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23001" t="27779" r="46001" b="12502"/>
          <a:stretch/>
        </p:blipFill>
        <p:spPr>
          <a:xfrm>
            <a:off x="0" y="0"/>
            <a:ext cx="4267080" cy="4114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0" y="3476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 = tes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t produces the gametes as well as the reproductive hormone testoster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rcRect l="40002" t="30555" r="13000" b="19445"/>
          <a:stretch/>
        </p:blipFill>
        <p:spPr>
          <a:xfrm>
            <a:off x="0" y="0"/>
            <a:ext cx="9144000" cy="43196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0" y="4876920"/>
            <a:ext cx="91440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gases shown are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O</a:t>
            </a:r>
            <a:r>
              <a:rPr b="0" lang="en-US" sz="5400" spc="-1" strike="noStrike" u="sng" baseline="-25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CO</a:t>
            </a:r>
            <a:r>
              <a:rPr b="0" lang="en-US" sz="5400" spc="-1" strike="noStrike" u="sng" baseline="-25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3504600" y="4191120"/>
            <a:ext cx="2438280" cy="9144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705000" y="457200"/>
            <a:ext cx="1523880" cy="44956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rcRect l="21002" t="30555" r="43002" b="26388"/>
          <a:stretch/>
        </p:blipFill>
        <p:spPr>
          <a:xfrm>
            <a:off x="1981080" y="0"/>
            <a:ext cx="5562720" cy="3651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0" y="3476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 = produc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 = primary consum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 = secondary consum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 = consumer (tertiary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rcRect l="13000" t="29170" r="17998" b="15278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4572000" y="20574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= Rece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2860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 = sensory neu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59092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 = interneu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9520" y="335268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= synapse (ga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53341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 = motor neu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495680" y="426708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 = Eff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38080"/>
            <a:ext cx="91440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urn baby bur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en muscles go through “oxygen debt” they switch to this inefficient proces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4299120"/>
            <a:ext cx="7620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relationship between muscle fatigue &amp; blood circul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17998" t="25003" r="11002" b="21827"/>
          <a:stretch/>
        </p:blipFill>
        <p:spPr>
          <a:xfrm>
            <a:off x="0" y="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5485320"/>
            <a:ext cx="696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process shown he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rcRect l="5678" t="18624" r="62785" b="45839"/>
          <a:stretch/>
        </p:blipFill>
        <p:spPr>
          <a:xfrm>
            <a:off x="762120" y="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JO SAC</dc:creator>
  <dc:description/>
  <dc:language>en-US</dc:language>
  <cp:lastModifiedBy>Joesac</cp:lastModifiedBy>
  <dcterms:modified xsi:type="dcterms:W3CDTF">2006-06-17T01:48:38Z</dcterms:modified>
  <cp:revision>96</cp:revision>
  <dc:subject/>
  <dc:title>June 20 Jeopardy</dc:title>
</cp:coreProperties>
</file>